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68956"/>
        <c:axId val="66901440"/>
      </c:barChart>
      <c:catAx>
        <c:axId val="38868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1440"/>
        <c:crosses val="autoZero"/>
        <c:auto val="1"/>
        <c:lblAlgn val="ctr"/>
        <c:lblOffset val="100"/>
        <c:noMultiLvlLbl val="0"/>
      </c:catAx>
      <c:valAx>
        <c:axId val="66901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8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526-E1F5-4E12-BDDD-AE037385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2E0-CCD1-40BC-8695-4B08798A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190-CB44-4FDC-8382-AC6664F5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9CE-816C-4A50-B030-9702BA28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1BE-AFCF-425B-9A61-5AB6FC45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7F0-7AA5-422A-9376-14BFE5E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F8E-407D-4989-940C-4FA82E6A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EFE-76DE-4F54-995B-2CD501C0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34D-DB3E-4A26-A485-1236F9EE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444-8494-4709-8AE0-828AB58C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23D-35CA-4210-ABB4-DEB4B405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1E9-28F9-434A-AD85-51EBFE9B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8EE77-8018-4D57-9617-D078F94207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