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7279"/>
        <c:axId val="70420485"/>
      </c:barChart>
      <c:catAx>
        <c:axId val="80907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20485"/>
        <c:crosses val="autoZero"/>
        <c:auto val="1"/>
        <c:lblAlgn val="ctr"/>
        <c:lblOffset val="100"/>
        <c:noMultiLvlLbl val="0"/>
      </c:catAx>
      <c:valAx>
        <c:axId val="70420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7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3E6-408E-4BC3-9239-FD69B55F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99C-DD1C-4FBC-A9D0-E3E3022E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87E-12DE-4FDA-9577-E96709DC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396-E169-4ECB-908B-6D66E32A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DB4-CABF-40AE-A7EE-BB4C9CFE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DFB-1CD6-4A0D-A379-6FE0C074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A7A-9622-48DF-8B5F-E399728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35B4-EB30-445A-A180-7129477F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122-CF59-4541-84C1-3723844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E33-C5FD-41C0-8346-3848B26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7BC-160E-4E0B-82B1-5E70682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D59-8961-454A-A7BB-D374877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F7064-4BA9-4E8B-B7F6-75AE0FACA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