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02819"/>
        <c:axId val="69882879"/>
      </c:barChart>
      <c:catAx>
        <c:axId val="55302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2879"/>
        <c:crosses val="autoZero"/>
        <c:auto val="1"/>
        <c:lblAlgn val="ctr"/>
        <c:lblOffset val="100"/>
        <c:noMultiLvlLbl val="0"/>
      </c:catAx>
      <c:valAx>
        <c:axId val="69882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02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AEE-C3C7-452C-A783-4DDFABC8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052-DD11-4A1B-BAA2-4F4F21C9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00A-2CBC-485B-B427-C4DB550B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B7D-F688-4734-8F4B-213E9BFB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2E4-1054-4C3D-B83A-8C1F5891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6D6-38BD-44FF-9412-3B2979F8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821-4FD9-49E3-87C1-F793E577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41A-9FE9-4CD2-B689-51475A5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58D-21AC-4168-A6F4-D9D316DD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3D1-6578-4654-B767-C1736CC9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64D-43CC-4E94-A20D-527F948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AA4-AD56-4B97-AA60-A2A1254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E24E6-FB42-4F98-9320-552B0C838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