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50820"/>
        <c:axId val="17195099"/>
      </c:barChart>
      <c:catAx>
        <c:axId val="15450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95099"/>
        <c:crosses val="autoZero"/>
        <c:auto val="1"/>
        <c:lblAlgn val="ctr"/>
        <c:lblOffset val="100"/>
        <c:noMultiLvlLbl val="0"/>
      </c:catAx>
      <c:valAx>
        <c:axId val="17195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0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C81-D94F-43DE-83BF-BA490B08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518-C5ED-4D53-A780-89A388A2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AB2-5939-4DFD-A128-5D3BA33E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2CA-02DA-4CBD-B9BD-150331FE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8AA-5FE4-48F8-B289-DD1BB7D1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007-528D-43DB-9E3D-02D64F16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5A3-FAE7-4115-AA0B-0837D08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184-B59D-4CC6-9BB4-790070A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234-09BD-4A5D-81E8-5B03524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6D6-6F1F-42C7-BEF9-A628D8D9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1C5-4A62-4D4C-A760-59E748D7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C66-AF9A-4302-A441-4137F46E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450E2-40DC-4ECF-80AE-E5B2DC847B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