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48835"/>
        <c:axId val="28576965"/>
      </c:barChart>
      <c:catAx>
        <c:axId val="34148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76965"/>
        <c:crosses val="autoZero"/>
        <c:auto val="1"/>
        <c:lblAlgn val="ctr"/>
        <c:lblOffset val="100"/>
        <c:noMultiLvlLbl val="0"/>
      </c:catAx>
      <c:valAx>
        <c:axId val="28576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48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E00-8200-4D06-A6F6-330C03F0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E69-458A-49C3-B68D-56A95D24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CD2-50BE-488A-93A4-48C6E37F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5F3-F17A-4C73-AC35-0469D652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11E-4FD0-4B4F-83C1-0834EDC2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697-5528-4FED-B220-B5518EF2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AB2-F780-413C-8BEC-ACE1739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A1C-EC0B-401F-8041-831F279F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67E-D761-4E4B-A06F-EE0389F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EAA-DB5D-44C9-896F-39E68617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F83-4075-41D2-A46A-C0269366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D7E-1558-426C-952F-F7AEC3CF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72AF4-AF43-4501-9E01-64ED45E1B1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