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634110"/>
        <c:axId val="58494683"/>
      </c:barChart>
      <c:catAx>
        <c:axId val="646341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494683"/>
        <c:crosses val="autoZero"/>
        <c:auto val="1"/>
        <c:lblAlgn val="ctr"/>
        <c:lblOffset val="100"/>
        <c:noMultiLvlLbl val="0"/>
      </c:catAx>
      <c:valAx>
        <c:axId val="584946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6341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2858-5EE2-4BEC-9D0B-008BABEE9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4762-88BB-4925-B331-97D4019F9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A1DE-0A8E-43D4-A8D6-B5C305C79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1FAF-C9C4-41A8-80EC-0F5CF8553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F03B-6251-4726-BE7C-E92922D14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19E3-3D2B-4B08-B1F6-5E0B7779D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8B27-8190-4C91-94CA-5BA1FCB2A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A090-CB0D-4BEA-B2AA-FE74D1A9B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8AD4-275F-45DC-A8DD-F316D5BB8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9D86-C0B7-4E93-93C7-913D8C301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08DF-090E-4826-8290-3EA2FBF7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AC49-25BF-4D4D-B8FB-E229C023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64FEEA-0046-442F-8862-41E9C2C23E8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