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5574668"/>
        <c:axId val="77287263"/>
      </c:barChart>
      <c:catAx>
        <c:axId val="4557466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287263"/>
        <c:crosses val="autoZero"/>
        <c:auto val="1"/>
        <c:lblAlgn val="ctr"/>
        <c:lblOffset val="100"/>
        <c:noMultiLvlLbl val="0"/>
      </c:catAx>
      <c:valAx>
        <c:axId val="772872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557466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E46766-B9EB-4CA3-8E60-797A607139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F140B-2BA3-435F-A9E0-A671BDA49A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CAEDE4-B247-4FFB-89CA-E39A2F887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98402-D20E-4DFB-9530-AA64A66FC2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EE398-0761-4E4F-B7F2-F20C1C37B2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C85D2-2EF9-4316-A6E5-81717912D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574690-36C9-40BA-8AD6-E4B51B2CF6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C7980-D3F8-469B-9E04-80E9526201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40B9-8392-4178-9AF2-39C60B2EF0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6C9A3-D89C-419F-88EF-CDCDB6399D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DFA7-DD0F-4239-9DDD-0ABFA2738C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94AC3-CB0B-437D-8761-4BF0CB6027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902FE8B-686C-49D7-A8A5-FB30794BE225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