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673019"/>
        <c:axId val="25159620"/>
      </c:barChart>
      <c:catAx>
        <c:axId val="726730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59620"/>
        <c:crosses val="autoZero"/>
        <c:auto val="1"/>
        <c:lblAlgn val="ctr"/>
        <c:lblOffset val="100"/>
        <c:noMultiLvlLbl val="0"/>
      </c:catAx>
      <c:valAx>
        <c:axId val="251596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730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8CC4-83EE-4734-B532-4AAD01026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209D-C21D-4BC5-A415-80CDABE1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3DDE-2EB5-452A-B9D9-ABD14C0E8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D840-89D1-4805-9E08-41B21820F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4EF3-384D-4565-A72F-13C385E9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55DE-31FF-4B11-8918-367BCE93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B70E-03BE-4CFF-BE12-2B42B484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1CC8-F464-4558-9954-ACD3C05E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3F61-A2C4-450C-A575-0BA23690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3917-F2E3-4A85-9BD0-A8F21A92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A59F-5641-4E6F-9082-792B6EA6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E217-49A7-474C-B640-A1F881B3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C0EE7-8A6E-452B-9F1B-1516CD056C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