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13600"/>
        <c:axId val="38213818"/>
      </c:barChart>
      <c:catAx>
        <c:axId val="76413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13818"/>
        <c:crosses val="autoZero"/>
        <c:auto val="1"/>
        <c:lblAlgn val="ctr"/>
        <c:lblOffset val="100"/>
        <c:noMultiLvlLbl val="0"/>
      </c:catAx>
      <c:valAx>
        <c:axId val="38213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13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08E-C15F-407E-B117-49EF9667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662-0C75-42C7-8C36-6D69A395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C51-F966-478A-B95C-9A984ECE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203-65CB-41AD-9D0A-EA0D1991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C5E-47D3-438D-B9EF-8D4D58DB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C0E-9A9D-4FBC-AA7B-D63D30C3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FC7-CDDD-4CBC-9AED-3D8EA495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6EF-6864-4C22-9D25-9EE3727C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2CD-C210-4255-8EC7-EEDFA6CC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694-27B4-49C4-8498-FB52C48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7AF-2121-425F-BCF6-8B8B506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639-1317-4EC9-BEBC-223F21C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1750F-B173-4147-8B43-B3339C037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