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398340"/>
        <c:axId val="25524592"/>
      </c:barChart>
      <c:catAx>
        <c:axId val="81398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24592"/>
        <c:crosses val="autoZero"/>
        <c:auto val="1"/>
        <c:lblAlgn val="ctr"/>
        <c:lblOffset val="100"/>
        <c:noMultiLvlLbl val="0"/>
      </c:catAx>
      <c:valAx>
        <c:axId val="25524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98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5B7A-0F1A-4A77-A326-EB76CD794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7297-DED8-416D-BA44-D5E046A8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ABAB-B5E9-469D-B14C-C4968CA0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A59-1408-4F00-A175-A9EE2B93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9A3-0E4D-4ED5-ADFE-B7A6D0C1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FA61-94BC-4AD1-93FF-E13C23F6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AF1-6336-4EC2-93AC-80A4EB74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EF2-F208-467D-B03F-3A6BA176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5B5-FBE1-471B-817F-B9302526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7619-EF8E-4687-9084-653A67BF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EF86-0705-4D76-A3B3-EB659E23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1CDA-2BE1-448B-8FCF-7FA8B1D5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EEE54-3287-4739-81BE-F7EB8A7F2A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