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55312"/>
        <c:axId val="88815075"/>
      </c:barChart>
      <c:catAx>
        <c:axId val="67755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15075"/>
        <c:crosses val="autoZero"/>
        <c:auto val="1"/>
        <c:lblAlgn val="ctr"/>
        <c:lblOffset val="100"/>
        <c:noMultiLvlLbl val="0"/>
      </c:catAx>
      <c:valAx>
        <c:axId val="88815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55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4B8-198E-436B-9403-1AD18E6F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74BE-0892-4D1B-8A6A-57AA9EE7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2CA-90D7-4A74-B9F8-7B7CA47B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21A-59A2-4ED5-AC92-12D4CF45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42A-8CF9-4926-8AC5-6E53A51B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552-1A49-4390-B0DB-0999EA61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200-2697-43BF-BD23-81F725E6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B7A-BD66-4908-B214-8B09E129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8F6-6422-4D59-900A-B445646E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8ED-3035-4E2B-B8C8-E4579A24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DDB-6641-4147-BC22-DEBDE65A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34F-DC3E-42B3-BD7E-D92AFEC3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CF457-5DED-4A5A-BAD5-42A8647473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