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51440"/>
        <c:axId val="68134842"/>
      </c:barChart>
      <c:catAx>
        <c:axId val="56951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34842"/>
        <c:crosses val="autoZero"/>
        <c:auto val="1"/>
        <c:lblAlgn val="ctr"/>
        <c:lblOffset val="100"/>
        <c:noMultiLvlLbl val="0"/>
      </c:catAx>
      <c:valAx>
        <c:axId val="681348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51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CBF-0AAE-4282-99B2-511AAD97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40A-EB12-4E32-9318-B423AFFF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ACF-5B9F-49B6-B944-5B5EAC094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B11E-AED7-4986-80F4-33087E7C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8CF-E836-4EE1-A015-FE60D5A9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08D5-8DF8-4BFA-A597-33D25352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7A9-3D1D-4D97-A277-AB822683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6D4F-6331-4B0A-859A-25A9311B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28A8-80B2-43DE-94CD-ABFA99D8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EBC8-197D-4BB9-B65A-C1E3BE09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B191-80B7-40D4-914F-9B7BD147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E76-2396-4BE6-92CD-284BBAB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635FA-9A06-4C3C-B9C5-4722D7D995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