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738672"/>
        <c:axId val="30616148"/>
      </c:barChart>
      <c:catAx>
        <c:axId val="807386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16148"/>
        <c:crosses val="autoZero"/>
        <c:auto val="1"/>
        <c:lblAlgn val="ctr"/>
        <c:lblOffset val="100"/>
        <c:noMultiLvlLbl val="0"/>
      </c:catAx>
      <c:valAx>
        <c:axId val="306161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386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6F72-0FD5-4B07-85B5-65B0DAAEB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B9E4-59B3-4A9F-9C7A-0E609BBE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3A02-F551-49D1-A317-569B8E010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2720-65E4-4095-8884-FAD6CC1A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106E-EAFA-4022-85E0-3B608FF1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EA67-9CD6-40E2-B762-767F41E8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D593-C161-4235-8F87-D1DB5A4A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F54E-240C-4E12-93B1-F64223C0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E200-67BE-443A-A8C5-D5E68E95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872D-B25B-4CF1-A695-E1796DE1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DD24-D6B5-4F50-9600-CC7CD31F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33B7-6633-4AF1-8371-F1EE78C2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93EE1-6A8A-4C81-AC32-F971B3881B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