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71522"/>
        <c:axId val="13114888"/>
      </c:barChart>
      <c:catAx>
        <c:axId val="32715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114888"/>
        <c:crosses val="autoZero"/>
        <c:auto val="1"/>
        <c:lblAlgn val="ctr"/>
        <c:lblOffset val="100"/>
        <c:noMultiLvlLbl val="0"/>
      </c:catAx>
      <c:valAx>
        <c:axId val="131148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715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783A-7A98-4589-8482-EE9F68B92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ECE4-D72E-41E5-B964-34A33309D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DD89-868F-4083-8C87-171EC09DD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096A-87FD-49EC-BAD9-1CFCDE268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BB46-4BD4-49DE-916C-3272B7B7C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06E5-B761-4712-8827-7AAF1B432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7886-E791-4F62-8754-A0C4BEC17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CE87-8778-40C6-B310-87F1A6B82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CB72-17EC-4917-9A26-53D0EB7FA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5A8E-94CC-49F8-B703-99AA8D3D9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553B-B97B-4FD6-BE5F-EE688AA22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6091-31F5-41F2-ABDF-B5C898E34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621E4F-E249-480A-AC88-E01D5DB9B2F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