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313515"/>
        <c:axId val="75622543"/>
      </c:barChart>
      <c:catAx>
        <c:axId val="64313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22543"/>
        <c:crosses val="autoZero"/>
        <c:auto val="1"/>
        <c:lblAlgn val="ctr"/>
        <c:lblOffset val="100"/>
        <c:noMultiLvlLbl val="0"/>
      </c:catAx>
      <c:valAx>
        <c:axId val="756225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313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1DC-E35D-479C-85B1-5FDC1C47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7FE9-D5DB-42A1-B69E-96FD7B4C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F733-97F0-4F1D-A3E5-32B78BF6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CFBC-18B2-4CFA-A943-86AF19C4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B0D-49CF-4BF6-BCC0-FBD1331D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C00-4A84-4E15-8693-5DDAC33D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134-D834-404C-B38D-4B839511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91D-09F5-4D63-B135-1E92A73C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F5B3-7445-4AF5-BDFB-3EF5FB87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F1D8-5EA1-43C9-BD59-A1EC44A4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874-9DCF-40CA-8283-B82462DF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D18-9227-4A12-BC0A-4542F962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6F39B-BD4C-434B-A815-95A0EB9ED4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