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5021"/>
        <c:axId val="62676149"/>
      </c:barChart>
      <c:catAx>
        <c:axId val="6565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76149"/>
        <c:crosses val="autoZero"/>
        <c:auto val="1"/>
        <c:lblAlgn val="ctr"/>
        <c:lblOffset val="100"/>
        <c:noMultiLvlLbl val="0"/>
      </c:catAx>
      <c:valAx>
        <c:axId val="62676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E43-0049-4A6C-8A91-7C9A7CD6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7F8-50CC-4C18-B9C1-2B32F849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8EF-4E19-4644-9D55-122218C3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163-D25B-406F-ACFE-57767560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68A-B5F4-4D32-B082-2E25FA8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D7B-5AB5-4B1A-9649-DD7EC09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98C-FE7E-472C-A661-C7A98A4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C2D-A5E9-4008-A0CD-EF7A90C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329-C8FA-49F2-90A3-9635E5EE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8E6-EA3A-43C9-81C3-554EB5A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2E1-EB8D-4CD3-B39F-CB1AEA5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D91-D746-41E3-ACB2-0D9BC9F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00FD4-135C-4FD0-A55D-5C958F3701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