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00256"/>
        <c:axId val="49371147"/>
      </c:barChart>
      <c:catAx>
        <c:axId val="48000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71147"/>
        <c:crosses val="autoZero"/>
        <c:auto val="1"/>
        <c:lblAlgn val="ctr"/>
        <c:lblOffset val="100"/>
        <c:noMultiLvlLbl val="0"/>
      </c:catAx>
      <c:valAx>
        <c:axId val="49371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00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23E-F72F-40CC-BE7C-F49DF552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8AB3-FAB6-42E3-9B5A-ED3BA735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B47-88B6-4143-AC44-C8453D0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A14-54AF-4F87-8784-6B675806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BD7-A08C-42A5-A36D-526599EE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24CA-2EA5-4618-9BB3-96AF92D6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A8F7-3413-47EE-B7F1-BF0880DD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DD2-9BA6-46B3-8425-6F7AA4C0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2F58-21F2-4164-BBA3-45560AE2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071-DBBF-49FC-A5D7-4C0D276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0A4-F07D-4DAA-8C31-4717337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7C44-77EF-45C1-BBFE-4003C445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BA6D6-BF58-4F5E-93E0-F6CA5698D9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