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30680"/>
        <c:axId val="9167492"/>
      </c:barChart>
      <c:catAx>
        <c:axId val="60430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7492"/>
        <c:crosses val="autoZero"/>
        <c:auto val="1"/>
        <c:lblAlgn val="ctr"/>
        <c:lblOffset val="100"/>
        <c:noMultiLvlLbl val="0"/>
      </c:catAx>
      <c:valAx>
        <c:axId val="9167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0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CD0-7FED-46BA-8B6A-279C2894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124-46BC-4AD4-9EF6-79C42D4A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DF4-D54C-417A-8B52-78F70C4F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95F-F95A-4CC4-90CC-5B78AD60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D08-BFF6-4542-8C85-E648ACC9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A6C-7039-4F9E-B4F1-BF5A2E9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C6E-3D50-4264-9E84-9C08B2D6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45B-1C75-44B0-9012-09CCB81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11A-24FC-4B3A-B5D1-AAB82547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27F-492A-4844-8E2A-B75C301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061-6545-4EDB-9D9C-46CDC4C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330-091C-489E-B90D-9BAD4AB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E0ADA-6901-49CA-AAC5-575DD8A82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