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24727"/>
        <c:axId val="6393824"/>
      </c:barChart>
      <c:catAx>
        <c:axId val="937247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3824"/>
        <c:crosses val="autoZero"/>
        <c:auto val="1"/>
        <c:lblAlgn val="ctr"/>
        <c:lblOffset val="100"/>
        <c:noMultiLvlLbl val="0"/>
      </c:catAx>
      <c:valAx>
        <c:axId val="6393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247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97E-FB02-40EE-9D37-08AE6F26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804-84BE-4ECC-A5BB-A70768A4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445-3EAB-4648-AD8D-1796F9B5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BF7-77DD-4D4E-BBBD-604909E4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0E7-8235-4DF8-BE6C-04998E68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B85-4F42-4676-84AD-C7E94196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75B-5E82-4A61-AAB1-067276BA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3125-E09A-4E31-9371-D9F1FA30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D26-AD1D-46D9-8365-FDFDC662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8635-2018-4994-B77B-B80A3086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66E-B704-436F-B77A-9C5985B0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435-A35F-432A-BBD7-37DDC4E8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822B4-BBC4-4F8A-A822-FE19D3FF13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