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765124"/>
        <c:axId val="75677524"/>
      </c:barChart>
      <c:catAx>
        <c:axId val="857651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77524"/>
        <c:crosses val="autoZero"/>
        <c:auto val="1"/>
        <c:lblAlgn val="ctr"/>
        <c:lblOffset val="100"/>
        <c:noMultiLvlLbl val="0"/>
      </c:catAx>
      <c:valAx>
        <c:axId val="756775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651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E392-66AA-4500-86DA-5E77261D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9DC6-EE35-4C46-9431-6E3F97F5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3AE6-62EC-41EC-9E58-2080A51B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BFC1-BBF1-462C-8F8C-6FD0FF7D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0FA9-970C-47D3-9D38-62979B73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B456-754E-4531-917E-481AF722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8C60-298F-43D1-9DAC-161E8E08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3571-5184-4941-AC3D-D86C2C18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71B0-0EFB-4C51-B730-99CCA536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CCB5-617C-4DFF-AB99-3B5B03BC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39BF-4250-45E2-A28D-11BDA86F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1432-D02D-4B54-A03A-9658CEB5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17093-D8D3-4408-9E99-FB34FB5695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