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649853"/>
        <c:axId val="30623431"/>
      </c:barChart>
      <c:catAx>
        <c:axId val="806498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623431"/>
        <c:crosses val="autoZero"/>
        <c:auto val="1"/>
        <c:lblAlgn val="ctr"/>
        <c:lblOffset val="100"/>
        <c:noMultiLvlLbl val="0"/>
      </c:catAx>
      <c:valAx>
        <c:axId val="306234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6498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874A-E33A-446F-B1AF-ED9667DC8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BB41-362F-4CB5-8472-97F63E69E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E052-8CDF-48E1-823C-32146C4AF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81FF-E84E-4481-94E3-C9BAD7FF9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1BE9-F908-4681-9C27-136B68FDC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8C03-F582-42C9-956C-5EE17A3F4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14F0-27D3-4F67-8ED1-AFAD75F48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503D-A1B7-47F2-BB9F-2A75D081B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E499-EAC6-43D6-887B-FEAA3B467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901F-0296-49C1-A8F2-BA6A1CCA4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9B0A-01E8-4570-9FC7-CA5AFA07C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0950-490A-4BF0-9A1C-33BDF51E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34B2BC-3416-4AC9-BBA1-99D3C63B9D4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