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72080"/>
        <c:axId val="34964503"/>
      </c:barChart>
      <c:catAx>
        <c:axId val="25972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4503"/>
        <c:crosses val="autoZero"/>
        <c:auto val="1"/>
        <c:lblAlgn val="ctr"/>
        <c:lblOffset val="100"/>
        <c:noMultiLvlLbl val="0"/>
      </c:catAx>
      <c:valAx>
        <c:axId val="34964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2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7C2-8C4E-48C1-8F95-959FE264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F6C-2C14-4FB6-9274-A05869F3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7E0-E318-4E99-AA35-41E38944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ADF-A9A5-499E-94E4-959377B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2AA-C746-4A93-9CCB-33D4CFF2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170-0F72-496D-B22C-23CCAF5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142-422F-408D-ADBF-6AF6C70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ECF-2D8C-4D93-90A1-3C177CF4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6B8-0EB0-41AC-984D-7A2306A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A60-9663-4C57-8C1F-5B15651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711-6AE0-491A-A083-D1C256D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265-497A-49B7-B742-D6739A6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4374-7C9D-4F7C-89A1-C793C3B257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