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160233"/>
        <c:axId val="57193603"/>
      </c:barChart>
      <c:catAx>
        <c:axId val="17160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93603"/>
        <c:crosses val="autoZero"/>
        <c:auto val="1"/>
        <c:lblAlgn val="ctr"/>
        <c:lblOffset val="100"/>
        <c:noMultiLvlLbl val="0"/>
      </c:catAx>
      <c:valAx>
        <c:axId val="57193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60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817-2E4F-4A91-A2F0-3984055D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159-1503-41A0-9B9F-FBD4808C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2A2F-1184-4060-AB90-D304DD52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D0A4-7320-42D3-B0AB-FA6CB891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1BE-1D13-419B-9150-717BD357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940E-4A1B-4906-8F0A-512A03B7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EEE-6571-457D-B758-CE121AAA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7E89-E68A-4696-A9DA-E47C30AF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E1B4-9968-4242-B409-32DA5416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A188-FEB7-4A8D-9A87-75320CA4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E565-8B2A-4856-985A-41462A8F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0C83-614D-4BD6-BC09-0550A765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3F9A3-EA4F-4C01-90B3-7447064395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