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40560"/>
        <c:axId val="96119645"/>
      </c:barChart>
      <c:catAx>
        <c:axId val="73240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19645"/>
        <c:crosses val="autoZero"/>
        <c:auto val="1"/>
        <c:lblAlgn val="ctr"/>
        <c:lblOffset val="100"/>
        <c:noMultiLvlLbl val="0"/>
      </c:catAx>
      <c:valAx>
        <c:axId val="96119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40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F23-D1D0-4E4A-8F8A-5B0D23EC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492-73ED-4C7B-8133-6D045B31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3A3-0C5D-421D-AEE0-5A5E7242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CA9-B80F-4025-AD4C-DAF7E686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609-ACF2-423C-A397-B3A4256D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7FE-3738-4D7D-B6F1-3252B697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327-7D9C-4E44-AF3B-349AFA99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091-EFF2-481A-9A6A-A8DB77A3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790-ABBD-45EE-8261-3C4EFB8D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773-18BA-4665-BAAF-3C470247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105-09A4-4794-BE42-4E04579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AC2-2723-49E5-9204-E8EE02D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BC8DE-F5C9-4511-8D95-DA8331884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