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7792"/>
        <c:axId val="33784106"/>
      </c:barChart>
      <c:catAx>
        <c:axId val="55627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84106"/>
        <c:crosses val="autoZero"/>
        <c:auto val="1"/>
        <c:lblAlgn val="ctr"/>
        <c:lblOffset val="100"/>
        <c:noMultiLvlLbl val="0"/>
      </c:catAx>
      <c:valAx>
        <c:axId val="33784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7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633-88A2-46EE-994F-E661D9A0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565-3158-4B10-BD97-B452BC8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1C5-E250-4305-AFE3-CAFAC942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9A5-92B4-45AA-B0C9-C5FDF78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B4B-9D4D-4DBF-89DF-15CB5C8F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3D6-B62D-40DC-881B-39298429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2E9-4A8F-49BB-AD65-A85F226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828-B95D-4685-8EA4-62072FDD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E13-08F2-4FC6-BA30-9A8DBD3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8C8-155E-4A03-873D-E3C5B06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A14-C36E-45FA-B6C4-2C769DD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007-D81B-48A9-A573-6B136A8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62EE-DB3B-4CCA-BDAF-0657CFC4B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