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072447"/>
        <c:axId val="45367674"/>
      </c:barChart>
      <c:catAx>
        <c:axId val="20072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67674"/>
        <c:crosses val="autoZero"/>
        <c:auto val="1"/>
        <c:lblAlgn val="ctr"/>
        <c:lblOffset val="100"/>
        <c:noMultiLvlLbl val="0"/>
      </c:catAx>
      <c:valAx>
        <c:axId val="45367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072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E453-BEF6-4C1A-8047-3327EDED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4782-72C4-495F-B8C9-CC9BE213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B0AA-07B1-4D65-9546-8C685A82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6613-C600-423C-A8CA-FED1D8E8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E7E7-63C9-41FE-889E-A4C65E91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307E-3E6D-4A63-AFE9-32CEE84A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7F2E-D8D3-4C29-9B47-8240112EC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A35-EFE3-4E1F-9BA8-597042555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B29-D910-46C9-970D-4B65AD873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4A4D-53A8-45A6-8B70-3C7F633E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52E5-2830-422A-A07A-0D44928D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9FE6-CBE6-45D8-A3BC-DF199146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D840A1-546B-43FA-A43A-15B56F556C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