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25618"/>
        <c:axId val="89705310"/>
      </c:barChart>
      <c:catAx>
        <c:axId val="80725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05310"/>
        <c:crosses val="autoZero"/>
        <c:auto val="1"/>
        <c:lblAlgn val="ctr"/>
        <c:lblOffset val="100"/>
        <c:noMultiLvlLbl val="0"/>
      </c:catAx>
      <c:valAx>
        <c:axId val="8970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25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67C-3F8D-450A-A73B-C4A3EC8A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408-70BB-4424-B809-D709BF53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C11-BA47-4EFF-A802-111D3B39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69E-C649-4AE2-80D8-6A3B866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BE9-6162-46E4-B6A1-D8034F8A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BB2-CD73-4A25-8022-7CFD9B02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629-1E92-4593-8BB2-92831FFE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F74-3CB5-432B-A988-B1FD747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EBF-B792-4B43-98A0-56C8911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479-CED6-4FC6-911D-472C87B3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423-6782-4D87-B950-8597B0B1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E67-DEF5-4009-8957-FDFB5B6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433A9-9C78-4E8D-BE27-F2450C7651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