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35632"/>
        <c:axId val="90718590"/>
      </c:barChart>
      <c:catAx>
        <c:axId val="5803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8590"/>
        <c:crosses val="autoZero"/>
        <c:auto val="1"/>
        <c:lblAlgn val="ctr"/>
        <c:lblOffset val="100"/>
        <c:noMultiLvlLbl val="0"/>
      </c:catAx>
      <c:valAx>
        <c:axId val="90718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270-419F-4E4D-9FDB-A83BAC85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9B0-C3CA-48E9-81A6-DEDEAFA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B4A-DCA5-4C5A-8EB4-EA70734A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F17-F954-4D9B-A44A-B3AD0891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036-5F1C-4DA4-AD22-5FE5B4D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0BD-5AD9-405A-9E16-850497E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53E-EA01-4EAA-A499-87A8CE0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CCC-32DB-49FD-BCDE-BF449E2D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778-9556-449B-98C2-86FE2B0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26E-E10D-40EE-8D07-D897AB2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3A5-D893-423B-9B11-55FEE62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183-4932-4AF2-A565-9F91601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6E3A2-A5DE-4420-935B-3181A1579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