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89212"/>
        <c:axId val="95059222"/>
      </c:barChart>
      <c:catAx>
        <c:axId val="26589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59222"/>
        <c:crosses val="autoZero"/>
        <c:auto val="1"/>
        <c:lblAlgn val="ctr"/>
        <c:lblOffset val="100"/>
        <c:noMultiLvlLbl val="0"/>
      </c:catAx>
      <c:valAx>
        <c:axId val="9505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89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0D0-4F42-48DB-8DA3-C026DE24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03C-5CBF-47E6-AD52-35C8CC84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BDC-F579-45C5-A405-93A11192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E21-721F-4F13-B669-8156066D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4A0-A650-4A01-9215-087EED8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E4C-6229-4479-A52F-9D6A817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53D-468B-43B3-A059-0DCFFF46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00B-263B-4C1C-BB03-ED9B108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737-D262-4FC3-99FB-D25C4DE6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35F-1344-490A-82A1-47ECA61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8B0-35FA-4BD4-AAFF-90E94C1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0A8-268D-4030-ADFA-C30C644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9DF97-8532-4F6F-804F-BB45351DD7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