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37717"/>
        <c:axId val="52966682"/>
      </c:barChart>
      <c:catAx>
        <c:axId val="89737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66682"/>
        <c:crosses val="autoZero"/>
        <c:auto val="1"/>
        <c:lblAlgn val="ctr"/>
        <c:lblOffset val="100"/>
        <c:noMultiLvlLbl val="0"/>
      </c:catAx>
      <c:valAx>
        <c:axId val="52966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37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DBF-FCE9-4EBD-8829-8886D0F8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FA9-ECF9-4FF0-9A73-76E1B5EF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277-E6C7-4443-9EE7-2854073E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368-0416-4CC0-A910-B6B3D510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B1F-392F-42D0-ABE4-C68A6FEC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334-0479-40BA-9769-D0A30E08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745-5E26-4B49-9EBF-39A66DA0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3AD-72D1-425F-A420-E66591D6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33A-88F2-42C9-8F42-0C0C367F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BF4-B193-45E6-8EEC-EC53A54A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52E-237B-4416-869C-68AE39C7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360-CAB7-4CC3-96E0-BF9FE305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F8D65-13B2-4477-AE21-BD9576F8AC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