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02658"/>
        <c:axId val="86510119"/>
      </c:barChart>
      <c:catAx>
        <c:axId val="10502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10119"/>
        <c:crosses val="autoZero"/>
        <c:auto val="1"/>
        <c:lblAlgn val="ctr"/>
        <c:lblOffset val="100"/>
        <c:noMultiLvlLbl val="0"/>
      </c:catAx>
      <c:valAx>
        <c:axId val="86510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2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A06-989E-4736-8220-2E5F81A0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AFC-A3DC-468D-B7B0-A089D32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FD1-3D1A-470A-AB42-36CD0163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760-F8C6-4A63-AB31-E01B9F30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4F9-4334-4BB6-947A-21D33CF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5D-922B-44C6-A40E-5D8F9B37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82F-2B78-420F-9F4E-C37B711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C36-15DA-40FB-A3E8-9156406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267-9013-4A56-AB09-95B29D9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2D9-8608-4020-B977-BE09F8C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C01-82B8-4F43-AD9D-71130DF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3BB-19DA-4FB9-8071-FE6FC34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931A4-7F51-49E2-B976-47D41CD600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