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63594"/>
        <c:axId val="81627527"/>
      </c:barChart>
      <c:catAx>
        <c:axId val="19863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27527"/>
        <c:crosses val="autoZero"/>
        <c:auto val="1"/>
        <c:lblAlgn val="ctr"/>
        <c:lblOffset val="100"/>
        <c:noMultiLvlLbl val="0"/>
      </c:catAx>
      <c:valAx>
        <c:axId val="81627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63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7B0-21FD-433A-A148-689ADFC8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2D9-6F09-4D64-9B43-6FEB46F6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653-C3DB-47EA-9D94-13809558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1E1-6C4B-4101-A30C-57D5E48F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E63-4CA2-430F-9CB8-D5558CE1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035-97C7-4962-B94E-C5AB0A43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C0C-E83F-466B-BAA4-AF1E876C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139-013B-49A8-A557-4C52A6A6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74C-47F2-4A03-930A-E8DBE8D4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4B6-3256-4F6A-B3D4-3797C10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762-1A40-4109-830B-DB0E8193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568-7EFB-4040-950F-07E638AD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DEF30-C049-4064-8030-03A2064A8C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