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72618"/>
        <c:axId val="43805894"/>
      </c:barChart>
      <c:catAx>
        <c:axId val="83772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05894"/>
        <c:crosses val="autoZero"/>
        <c:auto val="1"/>
        <c:lblAlgn val="ctr"/>
        <c:lblOffset val="100"/>
        <c:noMultiLvlLbl val="0"/>
      </c:catAx>
      <c:valAx>
        <c:axId val="43805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72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CC4-6518-4085-8F72-C025C3A9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334-BEB3-41F8-AA3E-DA4A8BDC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2C2-43E7-45FB-8740-9F726507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31A-9CE4-4C60-A381-29440203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321-9B48-4E1F-BF3F-5703ED36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4EC-D8CE-43E5-9016-2187A036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96E-964E-4954-8DA6-4903391C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781-5512-41B0-85EE-30BC67F7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BE5-E6B0-4967-B0E7-7E78A5A3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745-38A3-44A8-9791-E6FFC55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B58-C928-4ACD-9D0D-5493F88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7C3-2909-46DA-A5C2-7A759F58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E8F97-778C-4575-AE6D-D6D539C76B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