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5800"/>
        <c:axId val="13660891"/>
      </c:barChart>
      <c:catAx>
        <c:axId val="32725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0891"/>
        <c:crosses val="autoZero"/>
        <c:auto val="1"/>
        <c:lblAlgn val="ctr"/>
        <c:lblOffset val="100"/>
        <c:noMultiLvlLbl val="0"/>
      </c:catAx>
      <c:valAx>
        <c:axId val="13660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5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55C-DD60-403E-A02B-C69C71FF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ED7-F349-4FD3-A56A-BC3F1A25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95F-A16D-42F6-9C7A-C5A1323B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5A2-4AC5-4205-A4F0-D52ED550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F1C-56DB-4FCE-B87A-3C763B45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126-31B5-43D1-87A8-9447194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8E6-2B78-44F1-B5C8-77EBDD58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7F4-B9A9-44D6-9A51-F3924E2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439-8BB9-4EF5-999F-CEAEE97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086-0B58-4352-ABB2-4A0F7794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B95-138B-49DC-8CBB-51565D8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514-89B0-4F7D-B2BC-6EE65292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1EA98-404C-4FD9-8882-DDFC7A0E8D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