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43537"/>
        <c:axId val="85971722"/>
      </c:barChart>
      <c:catAx>
        <c:axId val="49743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71722"/>
        <c:crosses val="autoZero"/>
        <c:auto val="1"/>
        <c:lblAlgn val="ctr"/>
        <c:lblOffset val="100"/>
        <c:noMultiLvlLbl val="0"/>
      </c:catAx>
      <c:valAx>
        <c:axId val="85971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43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7C8-E4A2-4515-B07F-30EC8FED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0548-3E3D-4480-8BA3-471CA3B9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4DF-86E9-452E-A058-EEE20611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109-F67D-42C0-B5A4-112D2AE3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82D-5065-4F72-8DE0-0C9EB7AC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F63-DC41-47AB-A04F-75CC54CC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D80-97E2-46EF-9E5A-1F5AAB98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D80-0AF5-4058-829A-25384963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882-77AB-43AF-92CD-CE08D7F6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BCA-B4ED-4099-A53E-09B70E99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500A-6E8D-4AB8-B1E6-D3C0BE8F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EB5-60B4-4631-91F2-55BD1E1D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31C10-DD74-4926-8A53-4E2DD6BCB5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