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47320"/>
        <c:axId val="71572197"/>
      </c:barChart>
      <c:catAx>
        <c:axId val="55047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72197"/>
        <c:crosses val="autoZero"/>
        <c:auto val="1"/>
        <c:lblAlgn val="ctr"/>
        <c:lblOffset val="100"/>
        <c:noMultiLvlLbl val="0"/>
      </c:catAx>
      <c:valAx>
        <c:axId val="71572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47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FB1-DEC4-47B3-A259-B5CCA912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DBD-5631-4549-A9DE-E044A2BF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12F-FD54-43C7-9386-C852CEFC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A9D-04B5-4302-8522-B34900F0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3F9-3670-4331-9966-0EAE85C5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587-8FF6-4975-B39C-4ACFC35A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F1F-A57B-4AA6-9B97-155A58E1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AD7-3DFD-4E0D-898F-50E1EEFD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899-5900-4596-9630-ACD97872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52C-20D5-4B78-A30A-4C31345A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FF2-22CD-4977-BFA6-0C4C4128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B96-E184-468F-9404-4F35219B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62004-7437-4415-87B1-07C718ECCA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