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279930"/>
        <c:axId val="1025346"/>
      </c:barChart>
      <c:catAx>
        <c:axId val="522799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25346"/>
        <c:crosses val="autoZero"/>
        <c:auto val="1"/>
        <c:lblAlgn val="ctr"/>
        <c:lblOffset val="100"/>
        <c:noMultiLvlLbl val="0"/>
      </c:catAx>
      <c:valAx>
        <c:axId val="10253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2799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9466-808B-4FBA-907F-7BF66BEE9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BBC2-BA52-42EA-89A2-E09AA6021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D883-CD80-4D0B-BBF2-82E88AE49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E45E-6D13-4565-9987-827F92666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7572-0F32-49BF-BDC9-8A4AF797B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F519-ED45-4604-B71A-2526E602A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60F3-98D1-4742-9B05-10E1FDDE6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EE04-415E-41DA-8910-97D01B2FC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7B2A-1858-4D3F-84E4-C48971919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45A3-D2B0-4376-9541-08D837BC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553B-A6BD-4EE1-9ED8-1716C551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2AED-9FB0-4C3E-8457-A4B17FCE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8D9847-D0D4-4402-B82A-812CFC2B747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