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24377"/>
        <c:axId val="56276019"/>
      </c:barChart>
      <c:catAx>
        <c:axId val="13024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76019"/>
        <c:crosses val="autoZero"/>
        <c:auto val="1"/>
        <c:lblAlgn val="ctr"/>
        <c:lblOffset val="100"/>
        <c:noMultiLvlLbl val="0"/>
      </c:catAx>
      <c:valAx>
        <c:axId val="56276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24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85C-8BA2-41C5-8B8D-4AB71729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81C-1231-43C4-AA9F-AA309AB8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0EE-2272-49AC-9860-3D2C4D52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5A6-9270-4620-8E1C-4856CE18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8EB-CA11-4F56-8E45-22D21B6C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FB2-DCCC-47FB-93E0-8BE925AF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663-CC00-49BB-ABF9-5CFE58D3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92C-1AA0-420C-8E11-0CCA31F0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36E-0FF4-447C-A016-1B822A83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88C-F3E3-4531-AC4D-7089C919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9F0-AF03-4F68-84CD-ED3C3D7C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D5B-CC66-49A3-8D9F-4BEC5181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AA44A-F542-4CFD-B192-2083FDA65D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