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52548"/>
        <c:axId val="5459108"/>
      </c:barChart>
      <c:catAx>
        <c:axId val="59252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108"/>
        <c:crosses val="autoZero"/>
        <c:auto val="1"/>
        <c:lblAlgn val="ctr"/>
        <c:lblOffset val="100"/>
        <c:noMultiLvlLbl val="0"/>
      </c:catAx>
      <c:valAx>
        <c:axId val="5459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52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6C0-9FC0-4CE3-8EC8-6B8F3B48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62D-125E-4082-A836-E1D21C0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652-BA8E-48F2-B75F-3057C05A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4B1-254E-4351-A4F1-3F455AD2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F2B-8D33-4FEA-AB29-6D4D0C4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056-06EA-405E-95D3-D64FCC8E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6E2-0866-45B0-9631-D9635D8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A6F-0EAE-4B2D-8A33-C958DFA8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30F-6DA0-4B68-B1F9-7D5B1EB7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8F1-507E-46A6-A5F4-68C35CC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765-7168-46E1-9CAD-FAA4169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863-84B7-4313-88D2-D535AEB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FFE26-B04E-4934-8145-4B4DEF877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